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FC6-449E-425A-8907-C81A5F3C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183-8E10-49A7-9DEF-A51CFD19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E34-C9FE-407C-92C6-43D3195B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CBC-8D05-42F2-8918-EA7FE0C2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798-C58A-4846-BE3A-5C5E4447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41E-1AAC-4EBF-B607-C38AF24F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5FC-64BC-449D-9F70-E02251A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B27-DE0E-40AE-BCC0-8A7D9CE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513-1356-4E3A-BC18-C0E3EFB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A2D-BE57-4B33-9CCE-B8560F9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5D7-F529-4F29-BDCE-6EBEED3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A9A-257A-46B1-AC62-3CC95F5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B03-66EE-4739-AD76-CB16113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38C-0602-4F68-A029-B457563C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CE8-B8E6-46F9-B194-014FEE985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4640" y="64008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152280" y="52578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762120" y="52578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aty.jpeg"/>
          <p:cNvPicPr/>
          <p:nvPr/>
        </p:nvPicPr>
        <p:blipFill>
          <a:blip r:embed="rId3"/>
          <a:stretch/>
        </p:blipFill>
        <p:spPr>
          <a:xfrm>
            <a:off x="13716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ikus.jpeg"/>
          <p:cNvPicPr/>
          <p:nvPr/>
        </p:nvPicPr>
        <p:blipFill>
          <a:blip r:embed="rId4"/>
          <a:stretch/>
        </p:blipFill>
        <p:spPr>
          <a:xfrm>
            <a:off x="1295280" y="586728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hristy.jpeg"/>
          <p:cNvPicPr/>
          <p:nvPr/>
        </p:nvPicPr>
        <p:blipFill>
          <a:blip r:embed="rId5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440000" y="642924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kat.jpg"/>
          <p:cNvPicPr/>
          <p:nvPr/>
        </p:nvPicPr>
        <p:blipFill>
          <a:blip r:embed="rId6"/>
          <a:stretch/>
        </p:blipFill>
        <p:spPr>
          <a:xfrm>
            <a:off x="762120" y="6019920"/>
            <a:ext cx="50148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aria.jpg"/>
          <p:cNvPicPr/>
          <p:nvPr/>
        </p:nvPicPr>
        <p:blipFill>
          <a:blip r:embed="rId7"/>
          <a:stretch/>
        </p:blipFill>
        <p:spPr>
          <a:xfrm>
            <a:off x="152280" y="59436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218880" y="665496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528064_260799027359258_1600446302_n.jpg"/>
          <p:cNvPicPr/>
          <p:nvPr/>
        </p:nvPicPr>
        <p:blipFill>
          <a:blip r:embed="rId8"/>
          <a:stretch/>
        </p:blipFill>
        <p:spPr>
          <a:xfrm>
            <a:off x="304920" y="152280"/>
            <a:ext cx="130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05:50Z</dcterms:modified>
  <cp:revision>102</cp:revision>
  <dc:subject/>
  <dc:title>Profile</dc:title>
</cp:coreProperties>
</file>